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184-52D8-4098-9C34-868D178F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9D1-DB16-4A9D-AA49-A10B8DA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B55-A52B-4EF0-B0ED-00510C23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FA8-B1DA-47E4-9338-C0CF08DF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B78-1146-42F3-A6EB-B8D9DA82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541-B29F-47AC-8D69-3E2B3E6A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421-FFD5-4D08-BA86-DB428126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A45-6BE6-4979-A5AF-41070A24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95F-9363-4FDA-B908-2BD82955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2E1-9BB6-4E22-8459-793CC515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F1E-FB27-40B3-98C8-AEE99112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D2A-82D1-478B-8EB4-9EB4F908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81B9-0C65-4252-A461-2E2AECCC8E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280"/>
            <a:ext cx="8361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Tahoma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6120" y="1562040"/>
            <a:ext cx="1186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Stim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biolog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43828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Stim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chim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32748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Stim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fis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21632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Stim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psich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800440"/>
            <a:ext cx="1737000" cy="1522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Tahoma"/>
              </a:rPr>
              <a:t>org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747880"/>
            <a:ext cx="1447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Attivazione biologica aspec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14600"/>
            <a:ext cx="1320840" cy="211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Tahoma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73960" y="152388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f2b81"/>
                </a:solidFill>
                <a:latin typeface="Tahoma"/>
              </a:rPr>
              <a:t>adat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10560" y="457200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f2b81"/>
                </a:solidFill>
                <a:latin typeface="Tahoma"/>
              </a:rPr>
              <a:t>malat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0" y="30574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f2b81"/>
                </a:solidFill>
                <a:latin typeface="Tahoma"/>
              </a:rPr>
              <a:t>dif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543800" y="2209680"/>
            <a:ext cx="53352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327672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3886200"/>
            <a:ext cx="53352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3" idx="3"/>
            <a:endCxn id="47" idx="1"/>
          </p:cNvCxnSpPr>
          <p:nvPr/>
        </p:nvCxnSpPr>
        <p:spPr>
          <a:xfrm>
            <a:off x="1372680" y="1913760"/>
            <a:ext cx="608760" cy="1648080"/>
          </a:xfrm>
          <a:prstGeom prst="bentConnector3">
            <a:avLst>
              <a:gd name="adj1" fmla="val 5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4" idx="3"/>
            <a:endCxn id="47" idx="1"/>
          </p:cNvCxnSpPr>
          <p:nvPr/>
        </p:nvCxnSpPr>
        <p:spPr>
          <a:xfrm>
            <a:off x="1371600" y="2790000"/>
            <a:ext cx="609840" cy="771840"/>
          </a:xfrm>
          <a:prstGeom prst="bentConnector3">
            <a:avLst>
              <a:gd name="adj1" fmla="val 4997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5" idx="3"/>
            <a:endCxn id="47" idx="1"/>
          </p:cNvCxnSpPr>
          <p:nvPr/>
        </p:nvCxnSpPr>
        <p:spPr>
          <a:xfrm flipV="1">
            <a:off x="1371600" y="3561480"/>
            <a:ext cx="609840" cy="118080"/>
          </a:xfrm>
          <a:prstGeom prst="bentConnector3">
            <a:avLst>
              <a:gd name="adj1" fmla="val 4997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6" idx="3"/>
            <a:endCxn id="47" idx="1"/>
          </p:cNvCxnSpPr>
          <p:nvPr/>
        </p:nvCxnSpPr>
        <p:spPr>
          <a:xfrm flipV="1">
            <a:off x="1371600" y="3561480"/>
            <a:ext cx="609840" cy="1006920"/>
          </a:xfrm>
          <a:prstGeom prst="bentConnector3">
            <a:avLst>
              <a:gd name="adj1" fmla="val 4997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7" idx="3"/>
            <a:endCxn id="48" idx="1"/>
          </p:cNvCxnSpPr>
          <p:nvPr/>
        </p:nvCxnSpPr>
        <p:spPr>
          <a:xfrm flipV="1">
            <a:off x="3718080" y="3404520"/>
            <a:ext cx="549360" cy="1573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8" idx="3"/>
            <a:endCxn id="49" idx="2"/>
          </p:cNvCxnSpPr>
          <p:nvPr/>
        </p:nvCxnSpPr>
        <p:spPr>
          <a:xfrm>
            <a:off x="5715000" y="3404520"/>
            <a:ext cx="533880" cy="1681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114800" y="5181480"/>
            <a:ext cx="1828800" cy="172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00"/>
                </a:solidFill>
                <a:latin typeface="Tahoma"/>
              </a:rPr>
              <a:t>Attivazione emo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876920" y="388584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3886200"/>
            <a:ext cx="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52280"/>
            <a:ext cx="8361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62040"/>
            <a:ext cx="22096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levata gravità ogge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143160"/>
            <a:ext cx="1143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tim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419720"/>
            <a:ext cx="22096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Ridotta gravità ogge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523880"/>
            <a:ext cx="2303640" cy="11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Ridotta variabilità individ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1523880"/>
            <a:ext cx="13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80"/>
                </a:solidFill>
                <a:latin typeface="Tahoma"/>
              </a:rPr>
              <a:t>Risposta aspec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90512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419720"/>
            <a:ext cx="2303640" cy="11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Elevata variabilità individ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190512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48006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4419720"/>
            <a:ext cx="130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80"/>
                </a:solidFill>
                <a:latin typeface="Tahoma"/>
              </a:rPr>
              <a:t>Risposta spec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480060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52280"/>
            <a:ext cx="8361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914400"/>
            <a:ext cx="403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Sistema neurovege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447920"/>
            <a:ext cx="7642080" cy="2130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ttività cardi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essione Arteri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somotilità perif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nduttanza cuta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eattività gastrointest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403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Sistema neuroendoc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267080"/>
            <a:ext cx="7642080" cy="2130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rti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ateco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rmone somatotr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olatt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rmoni tiroid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52280"/>
            <a:ext cx="8361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295280"/>
            <a:ext cx="403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Sistema imm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76240" y="2041560"/>
            <a:ext cx="756612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infocitop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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uscettibilità infe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52280"/>
            <a:ext cx="8361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28191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Disturbi psichi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6560" y="2031840"/>
            <a:ext cx="7721640" cy="3346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sturbo depressivo maggi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sturbi d’an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sturbo di pa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sturbo acuto da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sturbo post traumatico da stress (PTSD)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sturbi dissoci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52280"/>
            <a:ext cx="87631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Fattori psichici che influenzano una condizione m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0880" y="893880"/>
            <a:ext cx="286380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22b00"/>
                </a:solidFill>
                <a:latin typeface="Tahoma"/>
              </a:rPr>
              <a:t>Fattori psich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981080"/>
            <a:ext cx="2667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sturbi e sintomi psichi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3276720"/>
            <a:ext cx="2667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ratti di person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276720"/>
            <a:ext cx="2667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rrelati fisiologici dello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2057400"/>
            <a:ext cx="3276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ortamenti a rischio (fumo, alc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90920" y="1523880"/>
            <a:ext cx="38088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1523880"/>
            <a:ext cx="38088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66880" y="1447920"/>
            <a:ext cx="1524240" cy="152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0400" y="1447920"/>
            <a:ext cx="1523880" cy="152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971800"/>
            <a:ext cx="0" cy="2438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4680" y="297180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41911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41911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7240" y="5543640"/>
            <a:ext cx="799956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Influenza su esordio, decorso e risposta terapeutica in una condizione me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12:28:54Z</dcterms:created>
  <dc:creator>Paolo Santonastaso</dc:creator>
  <dc:description/>
  <dc:language>en-US</dc:language>
  <cp:lastModifiedBy>Mario</cp:lastModifiedBy>
  <cp:lastPrinted>2002-11-11T22:51:52Z</cp:lastPrinted>
  <dcterms:modified xsi:type="dcterms:W3CDTF">2002-12-15T17:04:33Z</dcterms:modified>
  <cp:revision>56</cp:revision>
  <dc:subject/>
  <dc:title>Nessun titolo diapositiva</dc:title>
</cp:coreProperties>
</file>